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5F9-6ABC-4E2E-95C5-D4D7A81E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A4A-F212-4B5F-AA58-DCA5B06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C2A-2B06-457A-9383-6C8BA291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45E-871F-4D3D-9A87-84E03AF4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609-2ADB-4BB5-A78F-16A6BF2A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C0C-1A7C-47C0-A657-49DEF38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9A1A-F02B-416E-B0BF-854951AE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5271-3F3C-4751-87D5-B48EBB0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A91A-E7F7-44AE-BCC1-7276992F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302-1A36-4866-B526-2580658F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8010-7E99-4DB8-99F5-286799E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ECB-CFD3-48B7-BAAD-C7EC3C6C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353-B9A0-434A-ADED-976D678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376-E2E1-440A-B323-8010AFD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266F-9D5B-43E2-A77E-CABF89E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2B9-2A98-489E-A269-68CEA0BD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CC1-5683-4F54-8CE9-C3CFB87B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2C3-94AA-4828-907E-853E4DAA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9F2-176B-4642-AE31-74002D36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CAE-5425-4486-BF47-4D8FABE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B54-5013-4F5F-9EAA-497636A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55C-9A75-47F2-B028-2A892162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D15-F8E3-45B3-AE50-BD24E4C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FD6-BB43-4D6C-8B1C-719A1DE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D1624-21F5-4399-B961-482537688B63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7F090-7673-4AA3-877A-F9D9DD9C7D0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E1B8B-430C-4D5C-8066-D6B015E94677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5792C-F687-4D5C-9D3A-28E5CC5DD10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2127240"/>
            <a:ext cx="82422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ROSHI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GASAK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6,000 buildin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,000-120,000 instant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usands of later deaths due to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5,000-74,000 instant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usands of later deaths due to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1330200" y="4925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*Between 1950 and 2000, Japan saw a drastic increase in cancer-related deaths, thought to be caused by effect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person shall be held to answer for a capital, or otherwise infamous crime, unless on a presentment or indictment of a Grand Jury, except in cases arising in the land or naval forces, or in the Militia, when in actual service in time of War or public danger; nor shall any person be subject for the same offense to be twice put in jeopardy of life or limb; nor shall be compelled in any criminal case to be a witness against himself, nor be deprived of life, liberty, or property, without due process of law; nor shall private property be taken for public use, without just compensation.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Pearl Harbor, people panicked and feared Japanese-Americans were sp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nse racism on west co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Japanese racism.jpg"/>
          <p:cNvPicPr/>
          <p:nvPr/>
        </p:nvPicPr>
        <p:blipFill>
          <a:blip r:embed="rId3"/>
          <a:stretch/>
        </p:blipFill>
        <p:spPr>
          <a:xfrm>
            <a:off x="2362320" y="3124080"/>
            <a:ext cx="48006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9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ed by Franklin Delano Roosevel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y area could be declared a “military zone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dered all people of Japanese ancestry to evacuate these zones to internment cam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Content Placeholder 22" descr="Order.jpg"/>
          <p:cNvPicPr/>
          <p:nvPr/>
        </p:nvPicPr>
        <p:blipFill>
          <a:blip r:embed="rId3"/>
          <a:srcRect l="-17882" t="0" r="-1788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4" descr="Camps.jpg"/>
          <p:cNvPicPr/>
          <p:nvPr/>
        </p:nvPicPr>
        <p:blipFill>
          <a:blip r:embed="rId3"/>
          <a:srcRect l="0" t="-19688" r="0" b="-19688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panese given almost no time to prepa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rched to railroads and sent to camp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Placeholder 7" descr="Fence.jpg"/>
          <p:cNvPicPr/>
          <p:nvPr/>
        </p:nvPicPr>
        <p:blipFill>
          <a:blip r:embed="rId2"/>
          <a:stretch/>
        </p:blipFill>
        <p:spPr>
          <a:xfrm>
            <a:off x="-66600" y="-42840"/>
            <a:ext cx="9594720" cy="728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ident Roosevelt authorized this secret project to research and develop the atomic bom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ly 16, 1945 – world’s first atomic bomb detonated in 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ROP THE BOMB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VADE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nimal American casual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most certain succ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re civilian casualties and destruction in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avy casualties to Americ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certain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ly military casualties inflicted on Jap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mericans warn Japan that “prompt and utter destruction” was comin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ittle Boy” dropped on Hiroshima on August 6, 1945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at Man” dropped on Nagasaki on August 9, 1945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Content Placeholder 14" descr="atomic bomb.jpg"/>
          <p:cNvPicPr/>
          <p:nvPr/>
        </p:nvPicPr>
        <p:blipFill>
          <a:blip r:embed="rId3"/>
          <a:srcRect l="0" t="-23737" r="0" b="-23737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03:04Z</dcterms:created>
  <dc:creator>Moffa, David</dc:creator>
  <dc:description/>
  <dc:language>en-US</dc:language>
  <cp:lastModifiedBy>Moffa, David</cp:lastModifiedBy>
  <dcterms:modified xsi:type="dcterms:W3CDTF">2011-05-26T13:36:21Z</dcterms:modified>
  <cp:revision>10</cp:revision>
  <dc:subject/>
  <dc:title>Japanese Internment and the Bomb</dc:title>
</cp:coreProperties>
</file>